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5C5-13B0-4776-8E58-5163BBD1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DBB-0800-434C-8180-84A37EE3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078-2C2E-4402-936A-EBDCCECE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DE1-FBAB-4896-BB93-EC285A1B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FDC-FCA2-4783-823B-3A5E518A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B12-0628-4AB0-93F8-4A98169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26E-135F-4141-9EE5-4C435C26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FD7-916F-4569-AB93-2DEB7D09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1C4-4526-4FC5-879C-D73F40AE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104-728D-407C-A5E4-2F7DB5A1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C3B-9B54-4844-BE12-44C45723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112-7AF4-4ABF-9572-CE5961CB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64A2-0E52-48D3-8BAF-F202EF065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99336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 Condensed"/>
              </a:rPr>
              <a:t>Probation Officer</a:t>
            </a:r>
            <a:endParaRPr b="0" lang="en-US" sz="4000" spc="1" strike="noStrike">
              <a:ln w="28440">
                <a:solidFill>
                  <a:srgbClr val="99336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86200" y="3276720"/>
            <a:ext cx="46483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3366"/>
                  </a:solidFill>
                  <a:miter/>
                </a:ln>
                <a:solidFill>
                  <a:srgbClr val="ffff99"/>
                </a:solidFill>
                <a:latin typeface="Berlin Sans FB Demi"/>
              </a:rPr>
              <a:t>By: Marissa Hartman</a:t>
            </a:r>
            <a:endParaRPr b="0" lang="en-US" sz="2400" spc="1" strike="noStrike">
              <a:ln w="28440">
                <a:solidFill>
                  <a:srgbClr val="993366"/>
                </a:solidFill>
                <a:miter/>
              </a:ln>
              <a:solidFill>
                <a:srgbClr val="ffff99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1600200"/>
            <a:ext cx="8458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upational Info</a:t>
            </a:r>
            <a:endParaRPr b="0" lang="en-US" sz="2400" spc="1" strike="noStrike">
              <a:ln w="28440">
                <a:solidFill>
                  <a:srgbClr val="ffcc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152280"/>
            <a:ext cx="784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ozuka Gothic Pro L"/>
              </a:rPr>
              <a:t>RESPONSIBILITIES</a:t>
            </a:r>
            <a:endParaRPr b="1" lang="en-US" sz="2400" spc="1" strike="noStrike">
              <a:ln w="28440">
                <a:solidFill>
                  <a:srgbClr val="ff006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ozuka Gothic Pro L"/>
              <a:ea typeface="Kozuka Gothic Pro 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371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ekton Pr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kton Pro"/>
              </a:rPr>
              <a:t>There are many responsibilities when being a probation officer.  For example, one might be on call 24 hours a day, and it is their responsibility to keep these offenders on parole or probation under control and in 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281952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99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ozuka Gothic Pro L"/>
              </a:rPr>
              <a:t>JOB REQUIREMENTS</a:t>
            </a:r>
            <a:endParaRPr b="1" lang="en-US" sz="2400" spc="1" strike="noStrike">
              <a:ln w="28440">
                <a:solidFill>
                  <a:srgbClr val="ffff99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ozuka Gothic Pro L"/>
              <a:ea typeface="Kozuka Gothic Pro 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88620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kton Pro"/>
                <a:ea typeface="Times New Roman"/>
              </a:rPr>
              <a:t>To work as a probation officer one must have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have a high school diploma or GED;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have at least a bachelor's degree in criminal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 justice or social work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complete a state or federal training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pass written and oral exams in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    program;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most stat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be at least 21 years old;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be in good physical and emotional condition;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 and pass a criminal background che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04920" y="228600"/>
            <a:ext cx="8686440" cy="6400800"/>
            <a:chOff x="304920" y="228600"/>
            <a:chExt cx="8686440" cy="6400800"/>
          </a:xfrm>
        </p:grpSpPr>
        <p:grpSp>
          <p:nvGrpSpPr>
            <p:cNvPr id="49" name=""/>
            <p:cNvGrpSpPr/>
            <p:nvPr/>
          </p:nvGrpSpPr>
          <p:grpSpPr>
            <a:xfrm>
              <a:off x="309960" y="230400"/>
              <a:ext cx="8675280" cy="6396840"/>
              <a:chOff x="309960" y="230400"/>
              <a:chExt cx="8675280" cy="63968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09960" y="230400"/>
                <a:ext cx="1778040" cy="474840"/>
                <a:chOff x="309960" y="230400"/>
                <a:chExt cx="1778040" cy="47484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09960" y="23040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" name=""/>
                <p:cNvGrpSpPr/>
                <p:nvPr/>
              </p:nvGrpSpPr>
              <p:grpSpPr>
                <a:xfrm>
                  <a:off x="309960" y="230400"/>
                  <a:ext cx="1777680" cy="474840"/>
                  <a:chOff x="309960" y="230400"/>
                  <a:chExt cx="1777680" cy="47484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330840" y="23796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Loca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309960" y="23040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" name=""/>
              <p:cNvGrpSpPr/>
              <p:nvPr/>
            </p:nvGrpSpPr>
            <p:grpSpPr>
              <a:xfrm>
                <a:off x="2088360" y="230400"/>
                <a:ext cx="1437840" cy="474840"/>
                <a:chOff x="2088360" y="230400"/>
                <a:chExt cx="1437840" cy="4748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2088360" y="230400"/>
                  <a:ext cx="14378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" name=""/>
                <p:cNvGrpSpPr/>
                <p:nvPr/>
              </p:nvGrpSpPr>
              <p:grpSpPr>
                <a:xfrm>
                  <a:off x="2088360" y="230400"/>
                  <a:ext cx="1437480" cy="474840"/>
                  <a:chOff x="2088360" y="230400"/>
                  <a:chExt cx="1437480" cy="47484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2109240" y="237960"/>
                    <a:ext cx="13957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ay Perio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088360" y="230400"/>
                    <a:ext cx="14374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" name=""/>
              <p:cNvGrpSpPr/>
              <p:nvPr/>
            </p:nvGrpSpPr>
            <p:grpSpPr>
              <a:xfrm>
                <a:off x="3526920" y="230400"/>
                <a:ext cx="5458320" cy="261000"/>
                <a:chOff x="3526920" y="230400"/>
                <a:chExt cx="5458320" cy="2610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526920" y="230400"/>
                  <a:ext cx="545832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3526920" y="230400"/>
                  <a:ext cx="5457960" cy="229320"/>
                  <a:chOff x="3526920" y="230400"/>
                  <a:chExt cx="5457960" cy="2293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3547800" y="237960"/>
                    <a:ext cx="5416200" cy="21348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526920" y="230400"/>
                    <a:ext cx="54579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" name=""/>
              <p:cNvGrpSpPr/>
              <p:nvPr/>
            </p:nvGrpSpPr>
            <p:grpSpPr>
              <a:xfrm>
                <a:off x="3526920" y="475560"/>
                <a:ext cx="1818720" cy="261000"/>
                <a:chOff x="3526920" y="475560"/>
                <a:chExt cx="1818720" cy="2610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526920" y="475560"/>
                  <a:ext cx="181872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3526920" y="475560"/>
                  <a:ext cx="1818360" cy="229680"/>
                  <a:chOff x="3526920" y="475560"/>
                  <a:chExt cx="1818360" cy="22968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547800" y="483120"/>
                    <a:ext cx="1776240" cy="21384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25%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526920" y="47556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5346000" y="475560"/>
                <a:ext cx="1818720" cy="261000"/>
                <a:chOff x="5346000" y="475560"/>
                <a:chExt cx="1818720" cy="2610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346000" y="475560"/>
                  <a:ext cx="181872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5346000" y="475560"/>
                  <a:ext cx="1818360" cy="229680"/>
                  <a:chOff x="5346000" y="475560"/>
                  <a:chExt cx="1818360" cy="2296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5366880" y="483120"/>
                    <a:ext cx="1776240" cy="21384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a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5346000" y="47556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"/>
              <p:cNvGrpSpPr/>
              <p:nvPr/>
            </p:nvGrpSpPr>
            <p:grpSpPr>
              <a:xfrm>
                <a:off x="7165080" y="475560"/>
                <a:ext cx="1820160" cy="261000"/>
                <a:chOff x="7165080" y="475560"/>
                <a:chExt cx="1820160" cy="261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7165080" y="475560"/>
                  <a:ext cx="182016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7165080" y="475560"/>
                  <a:ext cx="1819800" cy="229680"/>
                  <a:chOff x="7165080" y="475560"/>
                  <a:chExt cx="1819800" cy="22968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7185960" y="483120"/>
                    <a:ext cx="1778040" cy="21384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75%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165080" y="47556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" name=""/>
              <p:cNvGrpSpPr/>
              <p:nvPr/>
            </p:nvGrpSpPr>
            <p:grpSpPr>
              <a:xfrm>
                <a:off x="309960" y="721080"/>
                <a:ext cx="1778040" cy="474840"/>
                <a:chOff x="309960" y="721080"/>
                <a:chExt cx="1778040" cy="4748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09960" y="72108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309960" y="721080"/>
                  <a:ext cx="1777680" cy="474840"/>
                  <a:chOff x="309960" y="721080"/>
                  <a:chExt cx="1777680" cy="4748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330840" y="72864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Ohi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309960" y="72108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" name=""/>
              <p:cNvGrpSpPr/>
              <p:nvPr/>
            </p:nvGrpSpPr>
            <p:grpSpPr>
              <a:xfrm>
                <a:off x="2088360" y="721080"/>
                <a:ext cx="1437840" cy="261000"/>
                <a:chOff x="2088360" y="721080"/>
                <a:chExt cx="1437840" cy="261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088360" y="72108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2088360" y="721080"/>
                  <a:ext cx="1437480" cy="229320"/>
                  <a:chOff x="2088360" y="721080"/>
                  <a:chExt cx="1437480" cy="22932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2109240" y="72864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2088360" y="72108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" name=""/>
              <p:cNvGrpSpPr/>
              <p:nvPr/>
            </p:nvGrpSpPr>
            <p:grpSpPr>
              <a:xfrm>
                <a:off x="3526920" y="721080"/>
                <a:ext cx="1818720" cy="261000"/>
                <a:chOff x="3526920" y="721080"/>
                <a:chExt cx="1818720" cy="2610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526920" y="7210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3526920" y="721080"/>
                  <a:ext cx="1818360" cy="229320"/>
                  <a:chOff x="3526920" y="721080"/>
                  <a:chExt cx="1818360" cy="229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3547800" y="72864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526920" y="7210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" name=""/>
              <p:cNvGrpSpPr/>
              <p:nvPr/>
            </p:nvGrpSpPr>
            <p:grpSpPr>
              <a:xfrm>
                <a:off x="5346000" y="721080"/>
                <a:ext cx="1818720" cy="261000"/>
                <a:chOff x="5346000" y="721080"/>
                <a:chExt cx="1818720" cy="261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346000" y="7210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5346000" y="721080"/>
                  <a:ext cx="1818360" cy="229320"/>
                  <a:chOff x="5346000" y="721080"/>
                  <a:chExt cx="1818360" cy="2293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366880" y="72864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1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346000" y="7210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7165080" y="721080"/>
                <a:ext cx="1820160" cy="261000"/>
                <a:chOff x="7165080" y="721080"/>
                <a:chExt cx="1820160" cy="261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165080" y="72108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7165080" y="721080"/>
                  <a:ext cx="1819800" cy="229320"/>
                  <a:chOff x="7165080" y="721080"/>
                  <a:chExt cx="1819800" cy="22932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185960" y="72864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1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165080" y="72108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2088360" y="966600"/>
                <a:ext cx="1437840" cy="261000"/>
                <a:chOff x="2088360" y="966600"/>
                <a:chExt cx="1437840" cy="261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088360" y="96660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088360" y="966600"/>
                  <a:ext cx="1437480" cy="229320"/>
                  <a:chOff x="2088360" y="966600"/>
                  <a:chExt cx="1437480" cy="2293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109240" y="97416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088360" y="96660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3526920" y="966600"/>
                <a:ext cx="1818720" cy="261000"/>
                <a:chOff x="3526920" y="966600"/>
                <a:chExt cx="1818720" cy="2610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26920" y="9666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"/>
                <p:cNvGrpSpPr/>
                <p:nvPr/>
              </p:nvGrpSpPr>
              <p:grpSpPr>
                <a:xfrm>
                  <a:off x="3526920" y="966600"/>
                  <a:ext cx="1818360" cy="229320"/>
                  <a:chOff x="3526920" y="966600"/>
                  <a:chExt cx="1818360" cy="229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3547800" y="97416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7,44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526920" y="9666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5346000" y="966600"/>
                <a:ext cx="1818720" cy="261000"/>
                <a:chOff x="5346000" y="966600"/>
                <a:chExt cx="1818720" cy="261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346000" y="9666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5346000" y="966600"/>
                  <a:ext cx="1818360" cy="229320"/>
                  <a:chOff x="5346000" y="966600"/>
                  <a:chExt cx="1818360" cy="2293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5366880" y="97416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ff0066"/>
                        </a:solidFill>
                        <a:latin typeface="Verdana"/>
                        <a:ea typeface="Times New Roman"/>
                      </a:rPr>
                      <a:t>$46,09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346000" y="9666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7165080" y="966600"/>
                <a:ext cx="1820160" cy="261000"/>
                <a:chOff x="7165080" y="966600"/>
                <a:chExt cx="1820160" cy="261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165080" y="96660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7165080" y="966600"/>
                  <a:ext cx="1819800" cy="229320"/>
                  <a:chOff x="7165080" y="966600"/>
                  <a:chExt cx="1819800" cy="22932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7185960" y="97416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4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165080" y="96660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" name=""/>
              <p:cNvGrpSpPr/>
              <p:nvPr/>
            </p:nvGrpSpPr>
            <p:grpSpPr>
              <a:xfrm>
                <a:off x="309960" y="1212120"/>
                <a:ext cx="1778040" cy="474840"/>
                <a:chOff x="309960" y="1212120"/>
                <a:chExt cx="1778040" cy="4748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09960" y="121212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309960" y="1212120"/>
                  <a:ext cx="1777680" cy="474840"/>
                  <a:chOff x="309960" y="1212120"/>
                  <a:chExt cx="1777680" cy="4748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30840" y="121968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Akr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09960" y="121212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" name=""/>
              <p:cNvGrpSpPr/>
              <p:nvPr/>
            </p:nvGrpSpPr>
            <p:grpSpPr>
              <a:xfrm>
                <a:off x="2088360" y="1212120"/>
                <a:ext cx="1437840" cy="261000"/>
                <a:chOff x="2088360" y="1212120"/>
                <a:chExt cx="1437840" cy="261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88360" y="121212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2088360" y="1212120"/>
                  <a:ext cx="1437480" cy="229320"/>
                  <a:chOff x="2088360" y="1212120"/>
                  <a:chExt cx="1437480" cy="2293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2109240" y="121968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088360" y="12121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" name=""/>
              <p:cNvGrpSpPr/>
              <p:nvPr/>
            </p:nvGrpSpPr>
            <p:grpSpPr>
              <a:xfrm>
                <a:off x="3526920" y="1212120"/>
                <a:ext cx="1818720" cy="261000"/>
                <a:chOff x="3526920" y="1212120"/>
                <a:chExt cx="1818720" cy="2610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526920" y="12121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3526920" y="1212120"/>
                  <a:ext cx="1818360" cy="229320"/>
                  <a:chOff x="3526920" y="1212120"/>
                  <a:chExt cx="1818360" cy="2293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3547800" y="12196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6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526920" y="12121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5346000" y="1212120"/>
                <a:ext cx="1818720" cy="261000"/>
                <a:chOff x="5346000" y="1212120"/>
                <a:chExt cx="1818720" cy="261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346000" y="12121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5346000" y="1212120"/>
                  <a:ext cx="1818360" cy="229320"/>
                  <a:chOff x="5346000" y="1212120"/>
                  <a:chExt cx="1818360" cy="2293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5366880" y="12196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2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346000" y="12121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5" name=""/>
              <p:cNvGrpSpPr/>
              <p:nvPr/>
            </p:nvGrpSpPr>
            <p:grpSpPr>
              <a:xfrm>
                <a:off x="7165080" y="1212120"/>
                <a:ext cx="1820160" cy="261000"/>
                <a:chOff x="7165080" y="1212120"/>
                <a:chExt cx="1820160" cy="261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165080" y="121212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7165080" y="1212120"/>
                  <a:ext cx="1819800" cy="229320"/>
                  <a:chOff x="7165080" y="1212120"/>
                  <a:chExt cx="1819800" cy="2293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7185960" y="121968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3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165080" y="12121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2088360" y="1457280"/>
                <a:ext cx="1437840" cy="261000"/>
                <a:chOff x="2088360" y="1457280"/>
                <a:chExt cx="1437840" cy="261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088360" y="145728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2088360" y="1457280"/>
                  <a:ext cx="1437480" cy="229680"/>
                  <a:chOff x="2088360" y="1457280"/>
                  <a:chExt cx="1437480" cy="2296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2109240" y="1464840"/>
                    <a:ext cx="139572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088360" y="145728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3526920" y="1457280"/>
                <a:ext cx="1818720" cy="261000"/>
                <a:chOff x="3526920" y="1457280"/>
                <a:chExt cx="1818720" cy="261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526920" y="145728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3526920" y="1457280"/>
                  <a:ext cx="1818360" cy="229680"/>
                  <a:chOff x="3526920" y="1457280"/>
                  <a:chExt cx="1818360" cy="2296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3547800" y="146484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8,8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526920" y="145728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5346000" y="1457280"/>
                <a:ext cx="1818720" cy="261000"/>
                <a:chOff x="5346000" y="1457280"/>
                <a:chExt cx="1818720" cy="2610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346000" y="145728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5346000" y="1457280"/>
                  <a:ext cx="1818360" cy="229680"/>
                  <a:chOff x="5346000" y="1457280"/>
                  <a:chExt cx="1818360" cy="2296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5366880" y="146484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6,2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346000" y="145728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7165080" y="1457280"/>
                <a:ext cx="1820160" cy="261000"/>
                <a:chOff x="7165080" y="1457280"/>
                <a:chExt cx="1820160" cy="261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165080" y="145728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165080" y="1457280"/>
                  <a:ext cx="1819800" cy="229680"/>
                  <a:chOff x="7165080" y="1457280"/>
                  <a:chExt cx="1819800" cy="2296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7185960" y="1464840"/>
                    <a:ext cx="17780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7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165080" y="145728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309960" y="1702800"/>
                <a:ext cx="1778040" cy="474840"/>
                <a:chOff x="309960" y="1702800"/>
                <a:chExt cx="1778040" cy="4748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09960" y="170280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309960" y="1702800"/>
                  <a:ext cx="1777680" cy="474840"/>
                  <a:chOff x="309960" y="1702800"/>
                  <a:chExt cx="1777680" cy="4748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330840" y="171036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ant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09960" y="170280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2088360" y="1702800"/>
                <a:ext cx="1437840" cy="261000"/>
                <a:chOff x="2088360" y="1702800"/>
                <a:chExt cx="1437840" cy="2610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088360" y="170280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2088360" y="1702800"/>
                  <a:ext cx="1437480" cy="229680"/>
                  <a:chOff x="2088360" y="1702800"/>
                  <a:chExt cx="1437480" cy="2296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2109240" y="171036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088360" y="170280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0" name=""/>
              <p:cNvGrpSpPr/>
              <p:nvPr/>
            </p:nvGrpSpPr>
            <p:grpSpPr>
              <a:xfrm>
                <a:off x="3526920" y="1702800"/>
                <a:ext cx="1818720" cy="261000"/>
                <a:chOff x="3526920" y="1702800"/>
                <a:chExt cx="1818720" cy="261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526920" y="17028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3526920" y="1702800"/>
                  <a:ext cx="1818360" cy="229680"/>
                  <a:chOff x="3526920" y="1702800"/>
                  <a:chExt cx="1818360" cy="2296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547800" y="171036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6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526920" y="170280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5346000" y="1702800"/>
                <a:ext cx="1818720" cy="261000"/>
                <a:chOff x="5346000" y="1702800"/>
                <a:chExt cx="1818720" cy="261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346000" y="17028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5346000" y="1702800"/>
                  <a:ext cx="1818360" cy="229680"/>
                  <a:chOff x="5346000" y="1702800"/>
                  <a:chExt cx="1818360" cy="2296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366880" y="171036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5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346000" y="170280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7165080" y="1702800"/>
                <a:ext cx="1820160" cy="261000"/>
                <a:chOff x="7165080" y="1702800"/>
                <a:chExt cx="1820160" cy="2610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7165080" y="170280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7165080" y="1702800"/>
                  <a:ext cx="1819800" cy="229680"/>
                  <a:chOff x="7165080" y="1702800"/>
                  <a:chExt cx="1819800" cy="2296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7185960" y="171036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1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165080" y="170280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088360" y="1948320"/>
                <a:ext cx="1437840" cy="261000"/>
                <a:chOff x="2088360" y="1948320"/>
                <a:chExt cx="1437840" cy="261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088360" y="194832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2088360" y="1948320"/>
                  <a:ext cx="1437480" cy="229320"/>
                  <a:chOff x="2088360" y="1948320"/>
                  <a:chExt cx="1437480" cy="229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109240" y="195588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88360" y="19483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3526920" y="1948320"/>
                <a:ext cx="1818720" cy="261000"/>
                <a:chOff x="3526920" y="1948320"/>
                <a:chExt cx="1818720" cy="261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526920" y="194832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3526920" y="1948320"/>
                  <a:ext cx="1818360" cy="229320"/>
                  <a:chOff x="3526920" y="1948320"/>
                  <a:chExt cx="1818360" cy="2293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3547800" y="195588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8,85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526920" y="19483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5346000" y="1948320"/>
                <a:ext cx="1818720" cy="261000"/>
                <a:chOff x="5346000" y="1948320"/>
                <a:chExt cx="1818720" cy="261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46000" y="194832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5346000" y="1948320"/>
                  <a:ext cx="1818360" cy="229320"/>
                  <a:chOff x="5346000" y="1948320"/>
                  <a:chExt cx="1818360" cy="22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5366880" y="195588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6,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346000" y="19483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7165080" y="1948320"/>
                <a:ext cx="1820160" cy="261000"/>
                <a:chOff x="7165080" y="1948320"/>
                <a:chExt cx="1820160" cy="2610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165080" y="194832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7165080" y="1948320"/>
                  <a:ext cx="1819800" cy="229320"/>
                  <a:chOff x="7165080" y="1948320"/>
                  <a:chExt cx="1819800" cy="2293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7185960" y="195588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4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165080" y="19483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309960" y="2193840"/>
                <a:ext cx="1778040" cy="474840"/>
                <a:chOff x="309960" y="2193840"/>
                <a:chExt cx="1778040" cy="4748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09960" y="219384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309960" y="2193840"/>
                  <a:ext cx="1777680" cy="474840"/>
                  <a:chOff x="309960" y="2193840"/>
                  <a:chExt cx="1777680" cy="47484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330840" y="220140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incinnati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09960" y="219384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2088360" y="2193840"/>
                <a:ext cx="1437840" cy="261000"/>
                <a:chOff x="2088360" y="2193840"/>
                <a:chExt cx="1437840" cy="2610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088360" y="219384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2088360" y="2193840"/>
                  <a:ext cx="1437480" cy="229320"/>
                  <a:chOff x="2088360" y="2193840"/>
                  <a:chExt cx="1437480" cy="2293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2109240" y="220140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88360" y="219384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3526920" y="2193840"/>
                <a:ext cx="1818720" cy="261000"/>
                <a:chOff x="3526920" y="2193840"/>
                <a:chExt cx="1818720" cy="2610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526920" y="21938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3526920" y="2193840"/>
                  <a:ext cx="1818360" cy="229320"/>
                  <a:chOff x="3526920" y="2193840"/>
                  <a:chExt cx="1818360" cy="2293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547800" y="220140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87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526920" y="21938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5346000" y="2193840"/>
                <a:ext cx="1818720" cy="261000"/>
                <a:chOff x="5346000" y="2193840"/>
                <a:chExt cx="1818720" cy="2610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346000" y="21938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5346000" y="2193840"/>
                  <a:ext cx="1818360" cy="229320"/>
                  <a:chOff x="5346000" y="2193840"/>
                  <a:chExt cx="1818360" cy="2293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5366880" y="220140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3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346000" y="21938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5" name=""/>
              <p:cNvGrpSpPr/>
              <p:nvPr/>
            </p:nvGrpSpPr>
            <p:grpSpPr>
              <a:xfrm>
                <a:off x="7165080" y="2193840"/>
                <a:ext cx="1820160" cy="261000"/>
                <a:chOff x="7165080" y="2193840"/>
                <a:chExt cx="1820160" cy="2610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165080" y="219384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7165080" y="2193840"/>
                  <a:ext cx="1819800" cy="229320"/>
                  <a:chOff x="7165080" y="2193840"/>
                  <a:chExt cx="1819800" cy="2293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7185960" y="220140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165080" y="219384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2088360" y="2439000"/>
                <a:ext cx="1437840" cy="261000"/>
                <a:chOff x="2088360" y="2439000"/>
                <a:chExt cx="1437840" cy="2610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088360" y="243900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2088360" y="2439000"/>
                  <a:ext cx="1437480" cy="229680"/>
                  <a:chOff x="2088360" y="2439000"/>
                  <a:chExt cx="1437480" cy="229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2109240" y="2446560"/>
                    <a:ext cx="139572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88360" y="243900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3526920" y="2439000"/>
                <a:ext cx="1818720" cy="261000"/>
                <a:chOff x="3526920" y="2439000"/>
                <a:chExt cx="1818720" cy="2610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526920" y="243900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526920" y="2439000"/>
                  <a:ext cx="1818360" cy="229680"/>
                  <a:chOff x="3526920" y="2439000"/>
                  <a:chExt cx="1818360" cy="229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3547800" y="244656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9,25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526920" y="243900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5346000" y="2439000"/>
                <a:ext cx="1818720" cy="261000"/>
                <a:chOff x="5346000" y="2439000"/>
                <a:chExt cx="1818720" cy="2610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5346000" y="243900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5346000" y="2439000"/>
                  <a:ext cx="1818360" cy="229680"/>
                  <a:chOff x="5346000" y="2439000"/>
                  <a:chExt cx="1818360" cy="22968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5366880" y="244656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6,4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346000" y="243900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7165080" y="2439000"/>
                <a:ext cx="1820160" cy="261000"/>
                <a:chOff x="7165080" y="2439000"/>
                <a:chExt cx="1820160" cy="2610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165080" y="243900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7165080" y="2439000"/>
                  <a:ext cx="1819800" cy="229680"/>
                  <a:chOff x="7165080" y="2439000"/>
                  <a:chExt cx="1819800" cy="2296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7185960" y="2446560"/>
                    <a:ext cx="17780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29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165080" y="243900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" name=""/>
              <p:cNvGrpSpPr/>
              <p:nvPr/>
            </p:nvGrpSpPr>
            <p:grpSpPr>
              <a:xfrm>
                <a:off x="309960" y="2684520"/>
                <a:ext cx="1778040" cy="474840"/>
                <a:chOff x="309960" y="2684520"/>
                <a:chExt cx="1778040" cy="474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09960" y="268452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309960" y="2684520"/>
                  <a:ext cx="1777680" cy="474840"/>
                  <a:chOff x="309960" y="2684520"/>
                  <a:chExt cx="1777680" cy="4748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30840" y="269208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level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09960" y="268452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2088360" y="2684520"/>
                <a:ext cx="1437840" cy="261000"/>
                <a:chOff x="2088360" y="2684520"/>
                <a:chExt cx="1437840" cy="2610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088360" y="268452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2088360" y="2684520"/>
                  <a:ext cx="1437480" cy="229680"/>
                  <a:chOff x="2088360" y="2684520"/>
                  <a:chExt cx="1437480" cy="22968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109240" y="269208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88360" y="268452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" name=""/>
              <p:cNvGrpSpPr/>
              <p:nvPr/>
            </p:nvGrpSpPr>
            <p:grpSpPr>
              <a:xfrm>
                <a:off x="3526920" y="2684520"/>
                <a:ext cx="1818720" cy="261000"/>
                <a:chOff x="3526920" y="2684520"/>
                <a:chExt cx="1818720" cy="2610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526920" y="268452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3526920" y="2684520"/>
                  <a:ext cx="1818360" cy="229680"/>
                  <a:chOff x="3526920" y="2684520"/>
                  <a:chExt cx="1818360" cy="2296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3547800" y="269208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9.0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3526920" y="268452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5346000" y="2684520"/>
                <a:ext cx="1818720" cy="261000"/>
                <a:chOff x="5346000" y="2684520"/>
                <a:chExt cx="1818720" cy="261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346000" y="268452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" name=""/>
                <p:cNvGrpSpPr/>
                <p:nvPr/>
              </p:nvGrpSpPr>
              <p:grpSpPr>
                <a:xfrm>
                  <a:off x="5346000" y="2684520"/>
                  <a:ext cx="1818360" cy="229680"/>
                  <a:chOff x="5346000" y="2684520"/>
                  <a:chExt cx="1818360" cy="2296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5366880" y="269208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4.0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346000" y="268452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7165080" y="2684520"/>
                <a:ext cx="1820160" cy="261000"/>
                <a:chOff x="7165080" y="2684520"/>
                <a:chExt cx="1820160" cy="261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165080" y="268452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7165080" y="2684520"/>
                  <a:ext cx="1819800" cy="229680"/>
                  <a:chOff x="7165080" y="2684520"/>
                  <a:chExt cx="1819800" cy="22968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7185960" y="269208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4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165080" y="268452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2088360" y="2930040"/>
                <a:ext cx="1437840" cy="261000"/>
                <a:chOff x="2088360" y="2930040"/>
                <a:chExt cx="1437840" cy="26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088360" y="293004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2088360" y="2930040"/>
                  <a:ext cx="1437480" cy="229320"/>
                  <a:chOff x="2088360" y="2930040"/>
                  <a:chExt cx="1437480" cy="22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2109240" y="293760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88360" y="293004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3526920" y="2930040"/>
                <a:ext cx="1818720" cy="261000"/>
                <a:chOff x="3526920" y="2930040"/>
                <a:chExt cx="1818720" cy="261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526920" y="293004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526920" y="2930040"/>
                  <a:ext cx="1818360" cy="229320"/>
                  <a:chOff x="3526920" y="2930040"/>
                  <a:chExt cx="1818360" cy="2293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3547800" y="293760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9,69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526920" y="29300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5346000" y="2930040"/>
                <a:ext cx="1818720" cy="261000"/>
                <a:chOff x="5346000" y="2930040"/>
                <a:chExt cx="1818720" cy="261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346000" y="293004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5346000" y="2930040"/>
                  <a:ext cx="1818360" cy="229320"/>
                  <a:chOff x="5346000" y="2930040"/>
                  <a:chExt cx="1818360" cy="22932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366880" y="293760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9,95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346000" y="29300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7165080" y="2930040"/>
                <a:ext cx="1820160" cy="261000"/>
                <a:chOff x="7165080" y="2930040"/>
                <a:chExt cx="1820160" cy="2610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165080" y="293004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7165080" y="2930040"/>
                  <a:ext cx="1819800" cy="229320"/>
                  <a:chOff x="7165080" y="2930040"/>
                  <a:chExt cx="1819800" cy="2293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7185960" y="293760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9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7165080" y="293004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309960" y="3175560"/>
                <a:ext cx="1778040" cy="474840"/>
                <a:chOff x="309960" y="3175560"/>
                <a:chExt cx="1778040" cy="4748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09960" y="317556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309960" y="3175560"/>
                  <a:ext cx="1777680" cy="474840"/>
                  <a:chOff x="309960" y="3175560"/>
                  <a:chExt cx="1777680" cy="4748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330840" y="3183120"/>
                    <a:ext cx="1735920" cy="45936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olumbu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09960" y="317556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" name=""/>
              <p:cNvGrpSpPr/>
              <p:nvPr/>
            </p:nvGrpSpPr>
            <p:grpSpPr>
              <a:xfrm>
                <a:off x="2088360" y="3175560"/>
                <a:ext cx="1437840" cy="261000"/>
                <a:chOff x="2088360" y="3175560"/>
                <a:chExt cx="1437840" cy="2610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088360" y="317556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2088360" y="3175560"/>
                  <a:ext cx="1437480" cy="229320"/>
                  <a:chOff x="2088360" y="3175560"/>
                  <a:chExt cx="1437480" cy="22932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2109240" y="318312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088360" y="317556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3526920" y="3175560"/>
                <a:ext cx="1818720" cy="261000"/>
                <a:chOff x="3526920" y="3175560"/>
                <a:chExt cx="1818720" cy="2610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526920" y="317556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3526920" y="3175560"/>
                  <a:ext cx="1818360" cy="229320"/>
                  <a:chOff x="3526920" y="3175560"/>
                  <a:chExt cx="1818360" cy="2293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3547800" y="318312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0.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526920" y="317556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" name=""/>
              <p:cNvGrpSpPr/>
              <p:nvPr/>
            </p:nvGrpSpPr>
            <p:grpSpPr>
              <a:xfrm>
                <a:off x="5346000" y="3175560"/>
                <a:ext cx="1818720" cy="261000"/>
                <a:chOff x="5346000" y="3175560"/>
                <a:chExt cx="1818720" cy="2610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346000" y="317556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5346000" y="3175560"/>
                  <a:ext cx="1818360" cy="229320"/>
                  <a:chOff x="5346000" y="3175560"/>
                  <a:chExt cx="1818360" cy="2293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366880" y="318312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4.2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346000" y="317556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7165080" y="3175560"/>
                <a:ext cx="1820160" cy="261000"/>
                <a:chOff x="7165080" y="3175560"/>
                <a:chExt cx="1820160" cy="261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165080" y="317556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7165080" y="3175560"/>
                  <a:ext cx="1819800" cy="229320"/>
                  <a:chOff x="7165080" y="3175560"/>
                  <a:chExt cx="1819800" cy="2293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7185960" y="318312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7.17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165080" y="317556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" name=""/>
              <p:cNvGrpSpPr/>
              <p:nvPr/>
            </p:nvGrpSpPr>
            <p:grpSpPr>
              <a:xfrm>
                <a:off x="2088360" y="3420720"/>
                <a:ext cx="1437840" cy="261000"/>
                <a:chOff x="2088360" y="3420720"/>
                <a:chExt cx="1437840" cy="2610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088360" y="342072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2088360" y="3420720"/>
                  <a:ext cx="1437480" cy="229320"/>
                  <a:chOff x="2088360" y="3420720"/>
                  <a:chExt cx="1437480" cy="2293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109240" y="3428280"/>
                    <a:ext cx="139572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088360" y="34207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3526920" y="3420720"/>
                <a:ext cx="1818720" cy="261000"/>
                <a:chOff x="3526920" y="3420720"/>
                <a:chExt cx="1818720" cy="2610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526920" y="34207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3526920" y="3420720"/>
                  <a:ext cx="1818360" cy="229320"/>
                  <a:chOff x="3526920" y="3420720"/>
                  <a:chExt cx="1818360" cy="22932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3547800" y="342828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1,8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526920" y="34207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5346000" y="3420720"/>
                <a:ext cx="1818720" cy="261000"/>
                <a:chOff x="5346000" y="3420720"/>
                <a:chExt cx="1818720" cy="2610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346000" y="34207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"/>
                <p:cNvGrpSpPr/>
                <p:nvPr/>
              </p:nvGrpSpPr>
              <p:grpSpPr>
                <a:xfrm>
                  <a:off x="5346000" y="3420720"/>
                  <a:ext cx="1818360" cy="229320"/>
                  <a:chOff x="5346000" y="3420720"/>
                  <a:chExt cx="1818360" cy="22932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5366880" y="342828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0,37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346000" y="34207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7165080" y="3420720"/>
                <a:ext cx="1820160" cy="261000"/>
                <a:chOff x="7165080" y="3420720"/>
                <a:chExt cx="1820160" cy="26100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7165080" y="342072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" name=""/>
                <p:cNvGrpSpPr/>
                <p:nvPr/>
              </p:nvGrpSpPr>
              <p:grpSpPr>
                <a:xfrm>
                  <a:off x="7165080" y="3420720"/>
                  <a:ext cx="1819800" cy="229320"/>
                  <a:chOff x="7165080" y="3420720"/>
                  <a:chExt cx="1819800" cy="2293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7185960" y="3428280"/>
                    <a:ext cx="17780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6,5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165080" y="34207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09960" y="3666240"/>
                <a:ext cx="1778040" cy="474840"/>
                <a:chOff x="309960" y="3666240"/>
                <a:chExt cx="1778040" cy="474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09960" y="366624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" name=""/>
                <p:cNvGrpSpPr/>
                <p:nvPr/>
              </p:nvGrpSpPr>
              <p:grpSpPr>
                <a:xfrm>
                  <a:off x="309960" y="3666240"/>
                  <a:ext cx="1777680" cy="474840"/>
                  <a:chOff x="309960" y="3666240"/>
                  <a:chExt cx="1777680" cy="4748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30840" y="367380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untington-Ashl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09960" y="366624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" name=""/>
              <p:cNvGrpSpPr/>
              <p:nvPr/>
            </p:nvGrpSpPr>
            <p:grpSpPr>
              <a:xfrm>
                <a:off x="2088360" y="3666240"/>
                <a:ext cx="1437840" cy="261000"/>
                <a:chOff x="2088360" y="3666240"/>
                <a:chExt cx="1437840" cy="2610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088360" y="366624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"/>
                <p:cNvGrpSpPr/>
                <p:nvPr/>
              </p:nvGrpSpPr>
              <p:grpSpPr>
                <a:xfrm>
                  <a:off x="2088360" y="3666240"/>
                  <a:ext cx="1437480" cy="229680"/>
                  <a:chOff x="2088360" y="3666240"/>
                  <a:chExt cx="1437480" cy="2296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09240" y="367380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088360" y="366624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3526920" y="3666240"/>
                <a:ext cx="1818720" cy="261000"/>
                <a:chOff x="3526920" y="3666240"/>
                <a:chExt cx="1818720" cy="2610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526920" y="366624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" name=""/>
                <p:cNvGrpSpPr/>
                <p:nvPr/>
              </p:nvGrpSpPr>
              <p:grpSpPr>
                <a:xfrm>
                  <a:off x="3526920" y="3666240"/>
                  <a:ext cx="1818360" cy="229680"/>
                  <a:chOff x="3526920" y="3666240"/>
                  <a:chExt cx="1818360" cy="2296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3547800" y="367380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3.6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526920" y="366624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" name=""/>
              <p:cNvGrpSpPr/>
              <p:nvPr/>
            </p:nvGrpSpPr>
            <p:grpSpPr>
              <a:xfrm>
                <a:off x="5346000" y="3666240"/>
                <a:ext cx="1818720" cy="261000"/>
                <a:chOff x="5346000" y="3666240"/>
                <a:chExt cx="1818720" cy="2610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346000" y="366624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5346000" y="3666240"/>
                  <a:ext cx="1818360" cy="229680"/>
                  <a:chOff x="5346000" y="3666240"/>
                  <a:chExt cx="1818360" cy="2296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5366880" y="367380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6.0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346000" y="366624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0" name=""/>
              <p:cNvGrpSpPr/>
              <p:nvPr/>
            </p:nvGrpSpPr>
            <p:grpSpPr>
              <a:xfrm>
                <a:off x="7165080" y="3666240"/>
                <a:ext cx="1820160" cy="261000"/>
                <a:chOff x="7165080" y="3666240"/>
                <a:chExt cx="1820160" cy="2610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165080" y="366624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7165080" y="3666240"/>
                  <a:ext cx="1819800" cy="229680"/>
                  <a:chOff x="7165080" y="3666240"/>
                  <a:chExt cx="1819800" cy="22968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7185960" y="367380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7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165080" y="366624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2088360" y="3911760"/>
                <a:ext cx="1437840" cy="261000"/>
                <a:chOff x="2088360" y="3911760"/>
                <a:chExt cx="1437840" cy="2610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088360" y="391176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2088360" y="3911760"/>
                  <a:ext cx="1437480" cy="229320"/>
                  <a:chOff x="2088360" y="3911760"/>
                  <a:chExt cx="1437480" cy="2293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2109240" y="391932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088360" y="391176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3526920" y="3911760"/>
                <a:ext cx="1818720" cy="261000"/>
                <a:chOff x="3526920" y="3911760"/>
                <a:chExt cx="1818720" cy="2610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526920" y="391176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3526920" y="3911760"/>
                  <a:ext cx="1818360" cy="229320"/>
                  <a:chOff x="3526920" y="3911760"/>
                  <a:chExt cx="1818360" cy="2293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547800" y="391932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8,46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526920" y="391176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5" name=""/>
              <p:cNvGrpSpPr/>
              <p:nvPr/>
            </p:nvGrpSpPr>
            <p:grpSpPr>
              <a:xfrm>
                <a:off x="5346000" y="3911760"/>
                <a:ext cx="1818720" cy="261000"/>
                <a:chOff x="5346000" y="3911760"/>
                <a:chExt cx="1818720" cy="2610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346000" y="391176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5346000" y="3911760"/>
                  <a:ext cx="1818360" cy="229320"/>
                  <a:chOff x="5346000" y="3911760"/>
                  <a:chExt cx="1818360" cy="22932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5366880" y="391932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3,29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346000" y="391176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7165080" y="3911760"/>
                <a:ext cx="1820160" cy="261000"/>
                <a:chOff x="7165080" y="3911760"/>
                <a:chExt cx="1820160" cy="2610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165080" y="391176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7165080" y="3911760"/>
                  <a:ext cx="1819800" cy="229320"/>
                  <a:chOff x="7165080" y="3911760"/>
                  <a:chExt cx="1819800" cy="2293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7185960" y="391932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8,9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165080" y="391176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5" name=""/>
              <p:cNvGrpSpPr/>
              <p:nvPr/>
            </p:nvGrpSpPr>
            <p:grpSpPr>
              <a:xfrm>
                <a:off x="309960" y="4157280"/>
                <a:ext cx="1778040" cy="474840"/>
                <a:chOff x="309960" y="4157280"/>
                <a:chExt cx="1778040" cy="474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09960" y="415728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09960" y="4157280"/>
                  <a:ext cx="1777680" cy="474840"/>
                  <a:chOff x="309960" y="4157280"/>
                  <a:chExt cx="1777680" cy="4748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30840" y="4164840"/>
                    <a:ext cx="1735920" cy="45936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Lima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09960" y="415728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0" name=""/>
              <p:cNvGrpSpPr/>
              <p:nvPr/>
            </p:nvGrpSpPr>
            <p:grpSpPr>
              <a:xfrm>
                <a:off x="2088360" y="4157280"/>
                <a:ext cx="1437840" cy="261000"/>
                <a:chOff x="2088360" y="4157280"/>
                <a:chExt cx="1437840" cy="261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88360" y="415728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" name=""/>
                <p:cNvGrpSpPr/>
                <p:nvPr/>
              </p:nvGrpSpPr>
              <p:grpSpPr>
                <a:xfrm>
                  <a:off x="2088360" y="4157280"/>
                  <a:ext cx="1437480" cy="229320"/>
                  <a:chOff x="2088360" y="4157280"/>
                  <a:chExt cx="1437480" cy="2293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2109240" y="416484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088360" y="415728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3526920" y="4157280"/>
                <a:ext cx="1818720" cy="261000"/>
                <a:chOff x="3526920" y="4157280"/>
                <a:chExt cx="1818720" cy="2610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526920" y="415728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3526920" y="4157280"/>
                  <a:ext cx="1818360" cy="229320"/>
                  <a:chOff x="3526920" y="4157280"/>
                  <a:chExt cx="1818360" cy="2293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3547800" y="416484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9.4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526920" y="41572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5346000" y="4157280"/>
                <a:ext cx="1818720" cy="261000"/>
                <a:chOff x="5346000" y="4157280"/>
                <a:chExt cx="1818720" cy="2610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346000" y="415728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5346000" y="4157280"/>
                  <a:ext cx="1818360" cy="229320"/>
                  <a:chOff x="5346000" y="4157280"/>
                  <a:chExt cx="1818360" cy="2293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5366880" y="416484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3.54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346000" y="41572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7165080" y="4157280"/>
                <a:ext cx="1820160" cy="261000"/>
                <a:chOff x="7165080" y="4157280"/>
                <a:chExt cx="1820160" cy="2610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165080" y="415728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7165080" y="4157280"/>
                  <a:ext cx="1819800" cy="229320"/>
                  <a:chOff x="7165080" y="4157280"/>
                  <a:chExt cx="1819800" cy="2293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7185960" y="416484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7.9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165080" y="415728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2088360" y="4402440"/>
                <a:ext cx="1437840" cy="261000"/>
                <a:chOff x="2088360" y="4402440"/>
                <a:chExt cx="1437840" cy="2610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088360" y="440244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2088360" y="4402440"/>
                  <a:ext cx="1437480" cy="229320"/>
                  <a:chOff x="2088360" y="4402440"/>
                  <a:chExt cx="1437480" cy="22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2109240" y="4410000"/>
                    <a:ext cx="139572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088360" y="440244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3526920" y="4402440"/>
                <a:ext cx="1818720" cy="261000"/>
                <a:chOff x="3526920" y="4402440"/>
                <a:chExt cx="1818720" cy="261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526920" y="44024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3526920" y="4402440"/>
                  <a:ext cx="1818360" cy="229320"/>
                  <a:chOff x="3526920" y="4402440"/>
                  <a:chExt cx="1818360" cy="2293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3547800" y="441000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0,47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526920" y="44024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5346000" y="4402440"/>
                <a:ext cx="1818720" cy="261000"/>
                <a:chOff x="5346000" y="4402440"/>
                <a:chExt cx="1818720" cy="2610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5346000" y="44024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5346000" y="4402440"/>
                  <a:ext cx="1818360" cy="229320"/>
                  <a:chOff x="5346000" y="4402440"/>
                  <a:chExt cx="1818360" cy="2293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5366880" y="441000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8,97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346000" y="44024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7165080" y="4402440"/>
                <a:ext cx="1820160" cy="261000"/>
                <a:chOff x="7165080" y="4402440"/>
                <a:chExt cx="1820160" cy="2610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7165080" y="440244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7165080" y="4402440"/>
                  <a:ext cx="1819800" cy="229320"/>
                  <a:chOff x="7165080" y="4402440"/>
                  <a:chExt cx="1819800" cy="22932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7185960" y="4410000"/>
                    <a:ext cx="17780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8,06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65080" y="440244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309960" y="4647960"/>
                <a:ext cx="1778040" cy="474840"/>
                <a:chOff x="309960" y="4647960"/>
                <a:chExt cx="1778040" cy="4748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09960" y="464796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309960" y="4647960"/>
                  <a:ext cx="1777680" cy="474840"/>
                  <a:chOff x="309960" y="4647960"/>
                  <a:chExt cx="1777680" cy="47484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330840" y="465552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arkersburg-Marietta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09960" y="464796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2088360" y="4647960"/>
                <a:ext cx="1437840" cy="261000"/>
                <a:chOff x="2088360" y="4647960"/>
                <a:chExt cx="1437840" cy="2610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088360" y="464796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2088360" y="4647960"/>
                  <a:ext cx="1437480" cy="229680"/>
                  <a:chOff x="2088360" y="4647960"/>
                  <a:chExt cx="1437480" cy="2296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2109240" y="465552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088360" y="464796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3526920" y="4647960"/>
                <a:ext cx="1818720" cy="261000"/>
                <a:chOff x="3526920" y="4647960"/>
                <a:chExt cx="1818720" cy="2610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526920" y="464796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3526920" y="4647960"/>
                  <a:ext cx="1818360" cy="229680"/>
                  <a:chOff x="3526920" y="4647960"/>
                  <a:chExt cx="1818360" cy="2296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3547800" y="465552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3.5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3526920" y="464796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5346000" y="4647960"/>
                <a:ext cx="1818720" cy="261000"/>
                <a:chOff x="5346000" y="4647960"/>
                <a:chExt cx="1818720" cy="2610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346000" y="464796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5346000" y="4647960"/>
                  <a:ext cx="1818360" cy="229680"/>
                  <a:chOff x="5346000" y="4647960"/>
                  <a:chExt cx="1818360" cy="2296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5366880" y="465552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4.3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346000" y="464796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7165080" y="4647960"/>
                <a:ext cx="1820160" cy="261000"/>
                <a:chOff x="7165080" y="4647960"/>
                <a:chExt cx="1820160" cy="2610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7165080" y="464796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7165080" y="4647960"/>
                  <a:ext cx="1819800" cy="229680"/>
                  <a:chOff x="7165080" y="4647960"/>
                  <a:chExt cx="1819800" cy="2296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7185960" y="465552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7.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165080" y="464796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2088360" y="4893480"/>
                <a:ext cx="1437840" cy="261000"/>
                <a:chOff x="2088360" y="4893480"/>
                <a:chExt cx="1437840" cy="2610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088360" y="489348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7" name=""/>
                <p:cNvGrpSpPr/>
                <p:nvPr/>
              </p:nvGrpSpPr>
              <p:grpSpPr>
                <a:xfrm>
                  <a:off x="2088360" y="4893480"/>
                  <a:ext cx="1437480" cy="229320"/>
                  <a:chOff x="2088360" y="4893480"/>
                  <a:chExt cx="1437480" cy="2293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2109240" y="490104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088360" y="489348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3526920" y="4893480"/>
                <a:ext cx="1818720" cy="261000"/>
                <a:chOff x="3526920" y="4893480"/>
                <a:chExt cx="1818720" cy="2610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526920" y="48934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3526920" y="4893480"/>
                  <a:ext cx="1818360" cy="229320"/>
                  <a:chOff x="3526920" y="4893480"/>
                  <a:chExt cx="1818360" cy="2293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3547800" y="490104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8,0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526920" y="48934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5" name=""/>
              <p:cNvGrpSpPr/>
              <p:nvPr/>
            </p:nvGrpSpPr>
            <p:grpSpPr>
              <a:xfrm>
                <a:off x="5346000" y="4893480"/>
                <a:ext cx="1818720" cy="261000"/>
                <a:chOff x="5346000" y="4893480"/>
                <a:chExt cx="1818720" cy="2610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5346000" y="48934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7" name=""/>
                <p:cNvGrpSpPr/>
                <p:nvPr/>
              </p:nvGrpSpPr>
              <p:grpSpPr>
                <a:xfrm>
                  <a:off x="5346000" y="4893480"/>
                  <a:ext cx="1818360" cy="229320"/>
                  <a:chOff x="5346000" y="4893480"/>
                  <a:chExt cx="1818360" cy="22932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5366880" y="490104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9,84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346000" y="48934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0" name=""/>
              <p:cNvGrpSpPr/>
              <p:nvPr/>
            </p:nvGrpSpPr>
            <p:grpSpPr>
              <a:xfrm>
                <a:off x="7165080" y="4893480"/>
                <a:ext cx="1820160" cy="261000"/>
                <a:chOff x="7165080" y="4893480"/>
                <a:chExt cx="1820160" cy="2610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7165080" y="489348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2" name=""/>
                <p:cNvGrpSpPr/>
                <p:nvPr/>
              </p:nvGrpSpPr>
              <p:grpSpPr>
                <a:xfrm>
                  <a:off x="7165080" y="4893480"/>
                  <a:ext cx="1819800" cy="229320"/>
                  <a:chOff x="7165080" y="4893480"/>
                  <a:chExt cx="1819800" cy="229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7185960" y="490104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5,96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165080" y="489348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09960" y="5139000"/>
                <a:ext cx="1778040" cy="474840"/>
                <a:chOff x="309960" y="5139000"/>
                <a:chExt cx="1778040" cy="4748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309960" y="513900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7" name=""/>
                <p:cNvGrpSpPr/>
                <p:nvPr/>
              </p:nvGrpSpPr>
              <p:grpSpPr>
                <a:xfrm>
                  <a:off x="309960" y="5139000"/>
                  <a:ext cx="1777680" cy="474840"/>
                  <a:chOff x="309960" y="5139000"/>
                  <a:chExt cx="1777680" cy="4748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330840" y="514656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Toled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09960" y="513900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0" name=""/>
              <p:cNvGrpSpPr/>
              <p:nvPr/>
            </p:nvGrpSpPr>
            <p:grpSpPr>
              <a:xfrm>
                <a:off x="2088360" y="5139000"/>
                <a:ext cx="1437840" cy="261000"/>
                <a:chOff x="2088360" y="5139000"/>
                <a:chExt cx="1437840" cy="2610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088360" y="513900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2" name=""/>
                <p:cNvGrpSpPr/>
                <p:nvPr/>
              </p:nvGrpSpPr>
              <p:grpSpPr>
                <a:xfrm>
                  <a:off x="2088360" y="5139000"/>
                  <a:ext cx="1437480" cy="229320"/>
                  <a:chOff x="2088360" y="5139000"/>
                  <a:chExt cx="1437480" cy="22932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2109240" y="514656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088360" y="513900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3526920" y="5139000"/>
                <a:ext cx="1818720" cy="261000"/>
                <a:chOff x="3526920" y="5139000"/>
                <a:chExt cx="1818720" cy="2610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526920" y="513900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" name=""/>
                <p:cNvGrpSpPr/>
                <p:nvPr/>
              </p:nvGrpSpPr>
              <p:grpSpPr>
                <a:xfrm>
                  <a:off x="3526920" y="5139000"/>
                  <a:ext cx="1818360" cy="229320"/>
                  <a:chOff x="3526920" y="5139000"/>
                  <a:chExt cx="1818360" cy="22932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3547800" y="514656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7.7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3526920" y="51390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0" name=""/>
              <p:cNvGrpSpPr/>
              <p:nvPr/>
            </p:nvGrpSpPr>
            <p:grpSpPr>
              <a:xfrm>
                <a:off x="5346000" y="5139000"/>
                <a:ext cx="1818720" cy="261000"/>
                <a:chOff x="5346000" y="5139000"/>
                <a:chExt cx="1818720" cy="2610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346000" y="513900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5346000" y="5139000"/>
                  <a:ext cx="1818360" cy="229320"/>
                  <a:chOff x="5346000" y="5139000"/>
                  <a:chExt cx="1818360" cy="2293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5366880" y="514656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1.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346000" y="51390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5" name=""/>
              <p:cNvGrpSpPr/>
              <p:nvPr/>
            </p:nvGrpSpPr>
            <p:grpSpPr>
              <a:xfrm>
                <a:off x="7165080" y="5139000"/>
                <a:ext cx="1820160" cy="261000"/>
                <a:chOff x="7165080" y="5139000"/>
                <a:chExt cx="1820160" cy="2610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7165080" y="513900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7165080" y="5139000"/>
                  <a:ext cx="1819800" cy="229320"/>
                  <a:chOff x="7165080" y="5139000"/>
                  <a:chExt cx="1819800" cy="22932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7185960" y="514656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5.6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165080" y="513900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0" name=""/>
              <p:cNvGrpSpPr/>
              <p:nvPr/>
            </p:nvGrpSpPr>
            <p:grpSpPr>
              <a:xfrm>
                <a:off x="2088360" y="5384520"/>
                <a:ext cx="1437840" cy="261000"/>
                <a:chOff x="2088360" y="5384520"/>
                <a:chExt cx="1437840" cy="2610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2088360" y="538452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2088360" y="5384520"/>
                  <a:ext cx="1437480" cy="229320"/>
                  <a:chOff x="2088360" y="5384520"/>
                  <a:chExt cx="1437480" cy="2293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2109240" y="539208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088360" y="53845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5" name=""/>
              <p:cNvGrpSpPr/>
              <p:nvPr/>
            </p:nvGrpSpPr>
            <p:grpSpPr>
              <a:xfrm>
                <a:off x="3526920" y="5384520"/>
                <a:ext cx="1818720" cy="261000"/>
                <a:chOff x="3526920" y="5384520"/>
                <a:chExt cx="1818720" cy="2610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526920" y="53845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3526920" y="5384520"/>
                  <a:ext cx="1818360" cy="229320"/>
                  <a:chOff x="3526920" y="5384520"/>
                  <a:chExt cx="1818360" cy="229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3547800" y="53920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6,93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526920" y="53845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5346000" y="5384520"/>
                <a:ext cx="1818720" cy="261000"/>
                <a:chOff x="5346000" y="5384520"/>
                <a:chExt cx="1818720" cy="2610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346000" y="53845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5346000" y="5384520"/>
                  <a:ext cx="1818360" cy="229320"/>
                  <a:chOff x="5346000" y="5384520"/>
                  <a:chExt cx="1818360" cy="2293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5366880" y="53920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4,2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346000" y="53845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5" name=""/>
              <p:cNvGrpSpPr/>
              <p:nvPr/>
            </p:nvGrpSpPr>
            <p:grpSpPr>
              <a:xfrm>
                <a:off x="7165080" y="5384520"/>
                <a:ext cx="1820160" cy="261000"/>
                <a:chOff x="7165080" y="5384520"/>
                <a:chExt cx="1820160" cy="26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7165080" y="538452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7165080" y="5384520"/>
                  <a:ext cx="1819800" cy="229320"/>
                  <a:chOff x="7165080" y="5384520"/>
                  <a:chExt cx="1819800" cy="2293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7185960" y="539208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3,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165080" y="53845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0" name=""/>
              <p:cNvGrpSpPr/>
              <p:nvPr/>
            </p:nvGrpSpPr>
            <p:grpSpPr>
              <a:xfrm>
                <a:off x="309960" y="5629680"/>
                <a:ext cx="1778040" cy="474840"/>
                <a:chOff x="309960" y="5629680"/>
                <a:chExt cx="1778040" cy="4748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9960" y="562968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2" name=""/>
                <p:cNvGrpSpPr/>
                <p:nvPr/>
              </p:nvGrpSpPr>
              <p:grpSpPr>
                <a:xfrm>
                  <a:off x="309960" y="5629680"/>
                  <a:ext cx="1777680" cy="474840"/>
                  <a:chOff x="309960" y="5629680"/>
                  <a:chExt cx="1777680" cy="47484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330840" y="563724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oungstow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09960" y="562968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5" name=""/>
              <p:cNvGrpSpPr/>
              <p:nvPr/>
            </p:nvGrpSpPr>
            <p:grpSpPr>
              <a:xfrm>
                <a:off x="2088360" y="5629680"/>
                <a:ext cx="1437840" cy="261000"/>
                <a:chOff x="2088360" y="5629680"/>
                <a:chExt cx="1437840" cy="2610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088360" y="562968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2088360" y="5629680"/>
                  <a:ext cx="1437480" cy="229680"/>
                  <a:chOff x="2088360" y="5629680"/>
                  <a:chExt cx="1437480" cy="2296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2109240" y="563724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088360" y="562968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3526920" y="5629680"/>
                <a:ext cx="1818720" cy="261000"/>
                <a:chOff x="3526920" y="5629680"/>
                <a:chExt cx="1818720" cy="2610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526920" y="56296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3526920" y="5629680"/>
                  <a:ext cx="1818360" cy="229680"/>
                  <a:chOff x="3526920" y="5629680"/>
                  <a:chExt cx="1818360" cy="22968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3547800" y="563724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0.8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3526920" y="562968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5346000" y="5629680"/>
                <a:ext cx="1818720" cy="261000"/>
                <a:chOff x="5346000" y="5629680"/>
                <a:chExt cx="1818720" cy="2610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346000" y="56296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5346000" y="5629680"/>
                  <a:ext cx="1818360" cy="229680"/>
                  <a:chOff x="5346000" y="5629680"/>
                  <a:chExt cx="1818360" cy="2296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5366880" y="563724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4.1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5346000" y="562968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0" name=""/>
              <p:cNvGrpSpPr/>
              <p:nvPr/>
            </p:nvGrpSpPr>
            <p:grpSpPr>
              <a:xfrm>
                <a:off x="7165080" y="5629680"/>
                <a:ext cx="1820160" cy="261000"/>
                <a:chOff x="7165080" y="5629680"/>
                <a:chExt cx="1820160" cy="2610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7165080" y="562968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7165080" y="5629680"/>
                  <a:ext cx="1819800" cy="229680"/>
                  <a:chOff x="7165080" y="5629680"/>
                  <a:chExt cx="1819800" cy="2296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7185960" y="563724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8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165080" y="562968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2088360" y="5875200"/>
                <a:ext cx="1437840" cy="261000"/>
                <a:chOff x="2088360" y="5875200"/>
                <a:chExt cx="1437840" cy="2610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2088360" y="587520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"/>
                <p:cNvGrpSpPr/>
                <p:nvPr/>
              </p:nvGrpSpPr>
              <p:grpSpPr>
                <a:xfrm>
                  <a:off x="2088360" y="5875200"/>
                  <a:ext cx="1437480" cy="229320"/>
                  <a:chOff x="2088360" y="5875200"/>
                  <a:chExt cx="1437480" cy="22932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2109240" y="588276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088360" y="587520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0" name=""/>
              <p:cNvGrpSpPr/>
              <p:nvPr/>
            </p:nvGrpSpPr>
            <p:grpSpPr>
              <a:xfrm>
                <a:off x="3526920" y="5875200"/>
                <a:ext cx="1818720" cy="261000"/>
                <a:chOff x="3526920" y="5875200"/>
                <a:chExt cx="1818720" cy="2610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526920" y="58752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2" name=""/>
                <p:cNvGrpSpPr/>
                <p:nvPr/>
              </p:nvGrpSpPr>
              <p:grpSpPr>
                <a:xfrm>
                  <a:off x="3526920" y="5875200"/>
                  <a:ext cx="1818360" cy="229320"/>
                  <a:chOff x="3526920" y="5875200"/>
                  <a:chExt cx="1818360" cy="22932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3547800" y="588276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3,3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3526920" y="58752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5346000" y="5875200"/>
                <a:ext cx="1818720" cy="261000"/>
                <a:chOff x="5346000" y="5875200"/>
                <a:chExt cx="1818720" cy="26100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346000" y="58752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7" name=""/>
                <p:cNvGrpSpPr/>
                <p:nvPr/>
              </p:nvGrpSpPr>
              <p:grpSpPr>
                <a:xfrm>
                  <a:off x="5346000" y="5875200"/>
                  <a:ext cx="1818360" cy="229320"/>
                  <a:chOff x="5346000" y="5875200"/>
                  <a:chExt cx="1818360" cy="22932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5366880" y="588276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0,3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5346000" y="58752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0" name=""/>
              <p:cNvGrpSpPr/>
              <p:nvPr/>
            </p:nvGrpSpPr>
            <p:grpSpPr>
              <a:xfrm>
                <a:off x="7165080" y="5875200"/>
                <a:ext cx="1820160" cy="261000"/>
                <a:chOff x="7165080" y="5875200"/>
                <a:chExt cx="1820160" cy="26100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7165080" y="587520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2" name=""/>
                <p:cNvGrpSpPr/>
                <p:nvPr/>
              </p:nvGrpSpPr>
              <p:grpSpPr>
                <a:xfrm>
                  <a:off x="7165080" y="5875200"/>
                  <a:ext cx="1819800" cy="229320"/>
                  <a:chOff x="7165080" y="5875200"/>
                  <a:chExt cx="1819800" cy="22932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7185960" y="588276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5,9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165080" y="587520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5" name=""/>
              <p:cNvGrpSpPr/>
              <p:nvPr/>
            </p:nvGrpSpPr>
            <p:grpSpPr>
              <a:xfrm>
                <a:off x="309960" y="6120720"/>
                <a:ext cx="1778040" cy="474840"/>
                <a:chOff x="309960" y="6120720"/>
                <a:chExt cx="1778040" cy="47484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309960" y="612072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7" name=""/>
                <p:cNvGrpSpPr/>
                <p:nvPr/>
              </p:nvGrpSpPr>
              <p:grpSpPr>
                <a:xfrm>
                  <a:off x="309960" y="6120720"/>
                  <a:ext cx="1777680" cy="474840"/>
                  <a:chOff x="309960" y="6120720"/>
                  <a:chExt cx="1777680" cy="47484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330840" y="612828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United Stat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09960" y="612072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0" name=""/>
              <p:cNvGrpSpPr/>
              <p:nvPr/>
            </p:nvGrpSpPr>
            <p:grpSpPr>
              <a:xfrm>
                <a:off x="2088360" y="6120720"/>
                <a:ext cx="1437840" cy="261000"/>
                <a:chOff x="2088360" y="6120720"/>
                <a:chExt cx="1437840" cy="26100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088360" y="612072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2" name=""/>
                <p:cNvGrpSpPr/>
                <p:nvPr/>
              </p:nvGrpSpPr>
              <p:grpSpPr>
                <a:xfrm>
                  <a:off x="2088360" y="6120720"/>
                  <a:ext cx="1437480" cy="229320"/>
                  <a:chOff x="2088360" y="6120720"/>
                  <a:chExt cx="1437480" cy="22932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2109240" y="612828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088360" y="61207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5" name=""/>
              <p:cNvGrpSpPr/>
              <p:nvPr/>
            </p:nvGrpSpPr>
            <p:grpSpPr>
              <a:xfrm>
                <a:off x="3526920" y="6120720"/>
                <a:ext cx="1818720" cy="261000"/>
                <a:chOff x="3526920" y="6120720"/>
                <a:chExt cx="1818720" cy="2610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3526920" y="61207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7" name=""/>
                <p:cNvGrpSpPr/>
                <p:nvPr/>
              </p:nvGrpSpPr>
              <p:grpSpPr>
                <a:xfrm>
                  <a:off x="3526920" y="6120720"/>
                  <a:ext cx="1818360" cy="229320"/>
                  <a:chOff x="3526920" y="6120720"/>
                  <a:chExt cx="1818360" cy="2293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3547800" y="61282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7.5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3526920" y="61207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0" name=""/>
              <p:cNvGrpSpPr/>
              <p:nvPr/>
            </p:nvGrpSpPr>
            <p:grpSpPr>
              <a:xfrm>
                <a:off x="5346000" y="6120720"/>
                <a:ext cx="1818720" cy="261000"/>
                <a:chOff x="5346000" y="6120720"/>
                <a:chExt cx="1818720" cy="2610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346000" y="61207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2" name=""/>
                <p:cNvGrpSpPr/>
                <p:nvPr/>
              </p:nvGrpSpPr>
              <p:grpSpPr>
                <a:xfrm>
                  <a:off x="5346000" y="6120720"/>
                  <a:ext cx="1818360" cy="229320"/>
                  <a:chOff x="5346000" y="6120720"/>
                  <a:chExt cx="1818360" cy="22932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5366880" y="61282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6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5346000" y="61207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5" name=""/>
              <p:cNvGrpSpPr/>
              <p:nvPr/>
            </p:nvGrpSpPr>
            <p:grpSpPr>
              <a:xfrm>
                <a:off x="7165080" y="6120720"/>
                <a:ext cx="1820160" cy="261000"/>
                <a:chOff x="7165080" y="6120720"/>
                <a:chExt cx="1820160" cy="2610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7165080" y="612072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7165080" y="6120720"/>
                  <a:ext cx="1819800" cy="229320"/>
                  <a:chOff x="7165080" y="6120720"/>
                  <a:chExt cx="1819800" cy="22932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7185960" y="612828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0.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165080" y="61207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0" name=""/>
              <p:cNvGrpSpPr/>
              <p:nvPr/>
            </p:nvGrpSpPr>
            <p:grpSpPr>
              <a:xfrm>
                <a:off x="2088360" y="6366240"/>
                <a:ext cx="1437840" cy="261000"/>
                <a:chOff x="2088360" y="6366240"/>
                <a:chExt cx="1437840" cy="26100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2088360" y="636624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2088360" y="6366240"/>
                  <a:ext cx="1437480" cy="229320"/>
                  <a:chOff x="2088360" y="6366240"/>
                  <a:chExt cx="1437480" cy="22932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2109240" y="637380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088360" y="636624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5" name=""/>
              <p:cNvGrpSpPr/>
              <p:nvPr/>
            </p:nvGrpSpPr>
            <p:grpSpPr>
              <a:xfrm>
                <a:off x="3526920" y="6366240"/>
                <a:ext cx="1818720" cy="261000"/>
                <a:chOff x="3526920" y="6366240"/>
                <a:chExt cx="1818720" cy="26100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3526920" y="63662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3526920" y="6366240"/>
                  <a:ext cx="1818360" cy="229320"/>
                  <a:chOff x="3526920" y="6366240"/>
                  <a:chExt cx="1818360" cy="2293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3547800" y="637380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6,44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526920" y="63662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0" name=""/>
              <p:cNvGrpSpPr/>
              <p:nvPr/>
            </p:nvGrpSpPr>
            <p:grpSpPr>
              <a:xfrm>
                <a:off x="5346000" y="6366240"/>
                <a:ext cx="1818720" cy="261000"/>
                <a:chOff x="5346000" y="6366240"/>
                <a:chExt cx="1818720" cy="2610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5346000" y="63662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2" name=""/>
                <p:cNvGrpSpPr/>
                <p:nvPr/>
              </p:nvGrpSpPr>
              <p:grpSpPr>
                <a:xfrm>
                  <a:off x="5346000" y="6366240"/>
                  <a:ext cx="1818360" cy="229320"/>
                  <a:chOff x="5346000" y="6366240"/>
                  <a:chExt cx="1818360" cy="2293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5366880" y="637380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ffff00"/>
                        </a:solidFill>
                        <a:latin typeface="Verdana"/>
                        <a:ea typeface="Times New Roman"/>
                      </a:rPr>
                      <a:t>$47,2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346000" y="63662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5" name=""/>
              <p:cNvGrpSpPr/>
              <p:nvPr/>
            </p:nvGrpSpPr>
            <p:grpSpPr>
              <a:xfrm>
                <a:off x="7165080" y="6366240"/>
                <a:ext cx="1820160" cy="261000"/>
                <a:chOff x="7165080" y="6366240"/>
                <a:chExt cx="1820160" cy="2610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7165080" y="636624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7165080" y="6366240"/>
                  <a:ext cx="1819800" cy="229320"/>
                  <a:chOff x="7165080" y="6366240"/>
                  <a:chExt cx="1819800" cy="2293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7185960" y="637380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62,8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165080" y="636624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20" name=""/>
            <p:cNvSpPr/>
            <p:nvPr/>
          </p:nvSpPr>
          <p:spPr>
            <a:xfrm>
              <a:off x="304920" y="228600"/>
              <a:ext cx="8686440" cy="6400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553080" y="6492960"/>
            <a:ext cx="236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ttp://ocis.ode.state.oh.us/info2.aspx?FileID=Occ&amp;FileNum=100162&amp;TopicNum=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08:53Z</dcterms:created>
  <dc:creator>Southeast Local Schools</dc:creator>
  <dc:description/>
  <dc:language>en-US</dc:language>
  <cp:lastModifiedBy>Southeast Local Schools</cp:lastModifiedBy>
  <dcterms:modified xsi:type="dcterms:W3CDTF">2011-11-11T14:12:48Z</dcterms:modified>
  <cp:revision>7</cp:revision>
  <dc:subject/>
  <dc:title>PowerPoint Presentation</dc:title>
</cp:coreProperties>
</file>